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09304"/>
        <c:axId val="95879767"/>
      </c:barChart>
      <c:catAx>
        <c:axId val="15409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79767"/>
        <c:crosses val="autoZero"/>
        <c:auto val="1"/>
        <c:lblAlgn val="ctr"/>
        <c:lblOffset val="100"/>
        <c:noMultiLvlLbl val="0"/>
      </c:catAx>
      <c:valAx>
        <c:axId val="95879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09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E1C-0ED7-4AD6-AF22-69054093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2AD-EE5C-47BD-99F8-15349827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21D-9E13-411E-B562-8D873AEE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526-5D9E-4E35-BEEA-338A0D4E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0D1-45CE-4080-8EC3-BCFC7A8D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951-F80C-4B42-979C-279A43DB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41D-9E85-42E6-9363-50B0511B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4D4-902F-4A5C-A9BE-3EF79951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C7A-1C89-4A3A-A633-A45D595C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D68-E6D0-4CF7-AF41-E3F5904E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8D9-1B42-4F80-8EEB-D996254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9B8-866A-45CB-AAF1-8C0714AC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07AA1-A414-4C01-8E7F-56A7EB6E6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