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2330947"/>
        <c:axId val="98079950"/>
      </c:barChart>
      <c:catAx>
        <c:axId val="9233094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079950"/>
        <c:crosses val="autoZero"/>
        <c:auto val="1"/>
        <c:lblAlgn val="ctr"/>
        <c:lblOffset val="100"/>
        <c:noMultiLvlLbl val="0"/>
      </c:catAx>
      <c:valAx>
        <c:axId val="9807995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33094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75E3B-594A-4454-B2EF-8677D5225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08B3A-9292-423A-A85B-8860EAD42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9CA13-AC79-40D9-83E2-AE7813D88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1C468-0299-43A4-A71E-3F7671172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1629A-6E9D-4927-BC35-F2AE020FD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218DF-0249-4BBA-A519-B1D494218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4B7B3-E892-476B-85CB-37B8E6EAB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76122-F0C6-4831-AB5E-405EEFE87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52952-8CE7-4DAF-A9A4-D076DBEF0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18272-940E-439F-B450-1054301CD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1A934-58EC-4DF1-81C0-8A2EC8D6E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598D8-E332-43C9-834F-FDA876C9F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739AF0-B5F8-4DBD-AC41-31088AE2CC6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