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215991"/>
        <c:axId val="80843578"/>
      </c:barChart>
      <c:catAx>
        <c:axId val="322159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843578"/>
        <c:crosses val="autoZero"/>
        <c:auto val="1"/>
        <c:lblAlgn val="ctr"/>
        <c:lblOffset val="100"/>
        <c:noMultiLvlLbl val="0"/>
      </c:catAx>
      <c:valAx>
        <c:axId val="808435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2159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F938-9841-4EEE-BC75-D528D9BE4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5C6C-EBC6-485A-9968-AD422DA18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B48D-5EFA-4E62-9AC3-5C997D67B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3975-9071-4007-B67A-A4BF01A8B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28C4-8C8E-40FE-BD1B-EEFBD811D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C32A-4D42-4D3B-AD80-09F8A05C0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E604-37EC-4769-909F-D0A2C070A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B142-9063-41B5-AF6F-67B67BFBD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392C-0BC9-4EE1-897C-0956F49F9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6619-C2ED-4E96-ACA4-FA9429A9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7604-DFE8-4C9E-A6C7-EFAA809A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5D16-789E-478E-B287-54D8CDAF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AA06F9-0433-4F16-939A-3294935A484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