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90544"/>
        <c:axId val="74522623"/>
      </c:barChart>
      <c:catAx>
        <c:axId val="75390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22623"/>
        <c:crosses val="autoZero"/>
        <c:auto val="1"/>
        <c:lblAlgn val="ctr"/>
        <c:lblOffset val="100"/>
        <c:noMultiLvlLbl val="0"/>
      </c:catAx>
      <c:valAx>
        <c:axId val="74522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90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8DF-E97E-4830-ADD5-81BAC5C1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81C-8182-419B-94D6-B4A37C0E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7C9-0316-421D-8326-4ACAA1EC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235-21FA-4574-9B33-3E116A8C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305-3861-4C73-B60E-B1B9F64B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536-F9FB-45D6-9585-F5D70647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B74-CAE6-4AF5-B198-BCC800BF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2C1-678B-4FB8-89E8-FFFAF76C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DC6-D0E7-43BD-B685-4F72E277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284-1B7B-4A36-B9E9-309A2C9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A78-F18F-4180-BF7E-457B1375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651-56E8-44E8-AF39-86C7D73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65371-D199-4706-B3C2-BE568439C9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