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58966"/>
        <c:axId val="21364969"/>
      </c:barChart>
      <c:catAx>
        <c:axId val="99058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64969"/>
        <c:crosses val="autoZero"/>
        <c:auto val="1"/>
        <c:lblAlgn val="ctr"/>
        <c:lblOffset val="100"/>
        <c:noMultiLvlLbl val="0"/>
      </c:catAx>
      <c:valAx>
        <c:axId val="21364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58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305-CC44-437A-8229-54372525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EF4-E5FA-4DC9-A05D-EC7FF8C7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76E-847F-4ABD-9BFD-32E6F55B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AA8-CEA2-428A-B807-C2AA6EC5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D96-46D9-41A8-888C-B63CAC0B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988-A762-4518-8E9A-CDBEB293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5EA-9A40-4EC9-B322-20B9D609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ECA-DBC1-46D3-97A7-3F33891A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5BA-7FD4-476D-8197-89683CDD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B53-B0C8-4A7A-90A1-3AB67C7D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0AC-B520-41A5-A538-86013855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74B-EEC5-4651-8B84-25BA876B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DFC53-64E8-47D3-934B-FA2958C9D1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