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44901"/>
        <c:axId val="6645299"/>
      </c:barChart>
      <c:catAx>
        <c:axId val="59744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5299"/>
        <c:crosses val="autoZero"/>
        <c:auto val="1"/>
        <c:lblAlgn val="ctr"/>
        <c:lblOffset val="100"/>
        <c:noMultiLvlLbl val="0"/>
      </c:catAx>
      <c:valAx>
        <c:axId val="6645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4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F86-492B-4558-A4FF-F2DB83E7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D4E-8481-4716-A1CB-DE3463D9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97E-729F-4CF5-8FB6-6C81C103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7C9-161B-4EB3-93D0-78214DE2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618-2955-4044-A500-19BDA9C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F32-BC2C-4C1C-B882-008DBB6D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65E-507D-4073-A983-272C0095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7BA-B8EE-4D49-BFA3-ED857A14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7C9-CA82-4360-9071-A391EAA5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C86-046C-453D-9C37-E295769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6CA-21DF-43BE-A132-C335E17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B75-4BF1-4986-84EE-AA85600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06B8-AF57-41A3-842A-7F0D5CF91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