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25142"/>
        <c:axId val="92798102"/>
      </c:barChart>
      <c:catAx>
        <c:axId val="92625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98102"/>
        <c:crosses val="autoZero"/>
        <c:auto val="1"/>
        <c:lblAlgn val="ctr"/>
        <c:lblOffset val="100"/>
        <c:noMultiLvlLbl val="0"/>
      </c:catAx>
      <c:valAx>
        <c:axId val="92798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5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E4A-E96B-4E91-BC7E-D5103F90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18E-ED27-4FD5-B413-6E2CCEF6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156-A2BB-451A-8A10-21403BA7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C53-79AB-4BE9-8266-C0158498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2A7-3AA4-40C4-9CFD-D7580964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8A9-F4B4-4132-A15A-4950E7EA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2A6-3704-4694-A6A1-50B19AA3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2B9-29F2-409A-AF75-248A79DC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CC3-18C6-4203-8852-59CA774A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B55-F937-42DB-BA7C-BDB0EC27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BF2-8BCB-4202-AD68-588800E9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4F1-919A-4E05-A923-D8B55F81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EF00F-8248-47C1-92BE-52A822BC7E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