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93687"/>
        <c:axId val="88394928"/>
      </c:barChart>
      <c:catAx>
        <c:axId val="14393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94928"/>
        <c:crosses val="autoZero"/>
        <c:auto val="1"/>
        <c:lblAlgn val="ctr"/>
        <c:lblOffset val="100"/>
        <c:noMultiLvlLbl val="0"/>
      </c:catAx>
      <c:valAx>
        <c:axId val="88394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93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1F0-2399-43B6-B3D1-70F4AF14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079C-67EC-4593-823E-896593F6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412-98F3-4DCD-B69A-AE9E3C9E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C8C-1694-418B-A21B-0EB482DF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D5C-8DA7-4AB3-8AAA-9EFE710F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8F1-8A54-41C9-8AB0-CF9E2B44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160-A44F-47AB-AF92-D77DB895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AAC-44D3-489D-87CB-2DC062E4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631-FE8E-4D57-B427-B10DC134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044-D71F-4CC3-A40E-093346E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D8F-E080-45B1-A30F-8E9684E9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5E21-5588-4F00-8B6A-415120D6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EC012-1CE3-4954-9027-2F5937E8F5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