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895270"/>
        <c:axId val="31372166"/>
      </c:barChart>
      <c:catAx>
        <c:axId val="43895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72166"/>
        <c:crosses val="autoZero"/>
        <c:auto val="1"/>
        <c:lblAlgn val="ctr"/>
        <c:lblOffset val="100"/>
        <c:noMultiLvlLbl val="0"/>
      </c:catAx>
      <c:valAx>
        <c:axId val="313721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95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059-9EBE-451C-9305-BA7342A5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6924-5FAB-4674-B954-E2E40EB2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7CAC-C343-4C69-97BA-D3BC5096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862-5B96-4AED-876F-E2B02447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B81C-2C99-4FFA-8248-8E96151F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82E-8086-4D87-962D-9AE9B82E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8727-5272-4173-AC09-DB651C95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8005-D82C-4486-9690-C6DE81B0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3DF-054E-4FC2-81B0-8A972C92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3A0-CAA0-40A5-BD54-2426CB72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B51-B53D-4B77-B2C6-EB4E434B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A94-EC03-407A-948B-42274DAA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32326-2AD8-4F05-B031-3DEF21C6ED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