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253302"/>
        <c:axId val="97975406"/>
      </c:barChart>
      <c:catAx>
        <c:axId val="42253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75406"/>
        <c:crosses val="autoZero"/>
        <c:auto val="1"/>
        <c:lblAlgn val="ctr"/>
        <c:lblOffset val="100"/>
        <c:noMultiLvlLbl val="0"/>
      </c:catAx>
      <c:valAx>
        <c:axId val="97975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53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8F13-B862-4710-8FBD-E3CA8063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96F-40EC-41C9-B659-6CEA1EC9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B96-D0E5-493E-90D1-8CCC372A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418-DA38-4390-A43A-836E0DDE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3A2-42D5-4E57-9A46-8B508988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E41-F749-46EA-A57F-654E0572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BBF-A6A9-4756-AAE4-1E85C272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18A-1D2F-4165-8D44-A29505B9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716-3170-48AB-B2FD-988F7AF6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7733-C36F-4007-9C95-23BA2F1A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F00-7A26-4CD5-A843-79D74CD7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82B-29C7-494E-A2DF-0924DD17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752FF-ABF8-425B-9E83-FBE4E84033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