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04806"/>
        <c:axId val="25248420"/>
      </c:barChart>
      <c:catAx>
        <c:axId val="42104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48420"/>
        <c:crosses val="autoZero"/>
        <c:auto val="1"/>
        <c:lblAlgn val="ctr"/>
        <c:lblOffset val="100"/>
        <c:noMultiLvlLbl val="0"/>
      </c:catAx>
      <c:valAx>
        <c:axId val="25248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04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E33-23BD-4205-8CD6-BCD4F9C6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76B-62FC-425D-87AD-7AE800A5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606-C63B-471C-87CF-4DEBABFC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7BD-0815-408A-9B27-4AD86DDB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992-D28D-4CE8-A766-61F5382B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ECA-8A77-40E2-94C8-6612903F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80E-CC89-47A0-980F-96E27A95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BCA-4D3C-4790-8C2B-F86E4F25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D26-B880-405C-8EB5-FCB24DAF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0B9-6D86-4296-BDF3-04EB03F4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161-2FA4-44C6-AF7F-F573F0A4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C0C-2356-4320-B477-5E6E1DF5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BEA27-B0B8-4AC9-8A73-148A1F8DE0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