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88106"/>
        <c:axId val="35320392"/>
      </c:barChart>
      <c:catAx>
        <c:axId val="871881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20392"/>
        <c:crosses val="autoZero"/>
        <c:auto val="1"/>
        <c:lblAlgn val="ctr"/>
        <c:lblOffset val="100"/>
        <c:noMultiLvlLbl val="0"/>
      </c:catAx>
      <c:valAx>
        <c:axId val="35320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881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607F-552E-4ECF-8495-D0190A58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64A-CD93-466A-BB22-A710151A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9950-AE88-4475-ADA1-A67ECAD8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8F3-F5A5-4C30-A327-FBA2F8A8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FDF-E545-462A-AFD8-9A7D982E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BBD5-2BE5-49E3-9048-994AFBFE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00E-BE1E-4335-B7FD-B1E40D08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4F71-7B76-4A3F-ACD9-2D9882A5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A5ED-4B8F-4EB3-B729-CAFD50C3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03BB-4CC7-4570-8692-18C77A30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ADD-94C3-4F20-88E2-E4268299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AB7-2CF3-4015-8505-10F1DA59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B5AC6-495B-40E5-AB90-7940DE59D3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