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0796"/>
        <c:axId val="10661882"/>
      </c:barChart>
      <c:catAx>
        <c:axId val="7100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61882"/>
        <c:crosses val="autoZero"/>
        <c:auto val="1"/>
        <c:lblAlgn val="ctr"/>
        <c:lblOffset val="100"/>
        <c:noMultiLvlLbl val="0"/>
      </c:catAx>
      <c:valAx>
        <c:axId val="10661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0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FF6-DC03-4EFC-9846-6EF9090A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E2B-AF21-4123-9D70-322D4EC2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0F5-2A4F-4314-8E1D-D9779A4B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175-D0B3-433E-ADB4-68811114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7B9-62D2-4C69-B4F4-728919F4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9A7-2AA7-47B4-AA4A-24ACE0BD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BEC-1FA9-45D8-9C9A-164EF4EF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777-262E-48BD-8C37-8FA08EA5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F4E-B176-4BFC-BD96-A74002CE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909-8AF6-46D7-A573-BEEF364E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69A-8211-49DB-B59A-44003357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C73-D57F-4A33-B8F4-1044B02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DF904-000A-45CC-9DFC-2307CDC95E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