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53539"/>
        <c:axId val="82506354"/>
      </c:barChart>
      <c:catAx>
        <c:axId val="24953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06354"/>
        <c:crosses val="autoZero"/>
        <c:auto val="1"/>
        <c:lblAlgn val="ctr"/>
        <c:lblOffset val="100"/>
        <c:noMultiLvlLbl val="0"/>
      </c:catAx>
      <c:valAx>
        <c:axId val="82506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53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EF7-001B-4848-92C9-BA795C4E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485-B48B-4B3A-9946-506CCDA2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EA9-6D28-448E-B5AC-C26DB48B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854-F21D-4511-BE9B-2131F570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F37-9F73-4166-92DC-3E0864AA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F0D-8784-41C0-93E7-01C26D1B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BDC-0E76-48FE-BDF0-44B56EAE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A91-560A-4557-91E4-AD802AE2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FCA-669C-48AD-A2DF-D3130EA6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D3C-1D64-4E47-B3F6-267FAA8D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C7C-F0DB-4C9D-8F30-AE85956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B6E-46B8-4F06-9058-180BCF5C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91C95-3F9C-4F6E-B7A6-C029824778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