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12484"/>
        <c:axId val="68120645"/>
      </c:barChart>
      <c:catAx>
        <c:axId val="96012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20645"/>
        <c:crosses val="autoZero"/>
        <c:auto val="1"/>
        <c:lblAlgn val="ctr"/>
        <c:lblOffset val="100"/>
        <c:noMultiLvlLbl val="0"/>
      </c:catAx>
      <c:valAx>
        <c:axId val="68120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2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FF9-6CD3-4B5F-B5C3-C13B2631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245-8321-4943-91A0-7AD29EBC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701-C082-43E8-952C-B6F43CEC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55B-E194-43FA-8E3A-E3BC392A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AAD-FEC2-4A79-98A5-E6B2B97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039-DD47-4C96-B1B3-0661C7F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065-7F07-4EA0-A392-35B6A99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C62-CF47-4D28-AC71-E969B62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271-4040-43B0-A40E-FC68D20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FB6-E782-47E3-A79E-480CB61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390-DF00-4B53-8517-613229A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02A-43F8-4C81-A740-0ADBCF3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38BF3-AB18-496E-921C-B6D1E2D3C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