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55901"/>
        <c:axId val="98148369"/>
      </c:barChart>
      <c:catAx>
        <c:axId val="35755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48369"/>
        <c:crosses val="autoZero"/>
        <c:auto val="1"/>
        <c:lblAlgn val="ctr"/>
        <c:lblOffset val="100"/>
        <c:noMultiLvlLbl val="0"/>
      </c:catAx>
      <c:valAx>
        <c:axId val="98148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55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912-F3C8-4D4A-A2B7-27BA4D99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278-FC17-4240-9902-06C4A2D3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992-2A79-4FBF-A5A6-02F7848C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A8C-82AE-4CA1-9C99-A95F619B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40D-16C9-4189-841F-A13B202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596-5BA1-4F18-ACB0-50138591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9A7-3BE4-4DDE-8C21-E14EC41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300-F138-4A2F-9E47-C51CD0F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E8B-3B75-493F-ACFA-7B2A139A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235-A53A-4230-BA3F-87B188D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3F9-91F9-4A7E-B185-DA58544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568-FF67-40C2-8B8D-09BA9F6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204DC-116D-477A-973E-9FD2552A79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