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68037"/>
        <c:axId val="50531539"/>
      </c:barChart>
      <c:catAx>
        <c:axId val="42768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31539"/>
        <c:crosses val="autoZero"/>
        <c:auto val="1"/>
        <c:lblAlgn val="ctr"/>
        <c:lblOffset val="100"/>
        <c:noMultiLvlLbl val="0"/>
      </c:catAx>
      <c:valAx>
        <c:axId val="50531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68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EF9-7744-4392-8914-B463119B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0BB-7093-46D0-AC29-563B91FF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F97-E2C0-4F1F-88A1-D3BD96F6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89E-724B-4281-91E7-CFD4D78C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8E4-156F-4061-95B3-94F785E5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78C-E1F0-42EB-8139-DB1D6907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F61-9C49-4774-BBDF-A227BDB6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23F-1292-471A-9D89-261AA926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2E5-73AC-4CEB-A58D-2A6399DF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DA8-FE24-4171-8566-D8A5C71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BAD-14CB-49E6-81E1-1D46649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313-2A9B-4183-A1F2-49F0DEB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4AD90-64E5-46C6-B909-5529F43F57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