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2327"/>
        <c:axId val="22355149"/>
      </c:barChart>
      <c:catAx>
        <c:axId val="4172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55149"/>
        <c:crosses val="autoZero"/>
        <c:auto val="1"/>
        <c:lblAlgn val="ctr"/>
        <c:lblOffset val="100"/>
        <c:noMultiLvlLbl val="0"/>
      </c:catAx>
      <c:valAx>
        <c:axId val="22355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B33-780A-4D7B-9E91-3318776A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7D2-6421-46F9-8113-DDA27CC4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830-E004-47E0-AC3F-3B2E5596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AB9-73FB-464C-93EC-E3293827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7B0-D813-474E-96DB-9C431FC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D08-2E69-4EC5-9881-A93A0C49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EA6-822E-4051-98D3-57570663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AEF-58D4-4B59-BA4B-900BF67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59E-B724-431E-B6CF-7C0E67D2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E72-9A82-4288-9BA9-CDFDB90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ECB-C070-4556-B8AE-3F74C1C7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C7B-5AC8-4391-9F7A-A9B4246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20134-FAE7-4B88-9155-8284F48BE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